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4576-73C1-4385-BD19-979EF651C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BB55-4686-4D0F-A43A-466478F59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5D50C8-8079-4B9A-83E5-51FF547EE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7B9D97-D2E3-43D7-B767-D1D031D7D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087037-8787-4B83-ADAB-BB6C0C421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9CE982-33AF-45E0-A6FC-7A342ED1C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E30BC6-D6C3-4BA4-9189-B9F1F78F3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A59BC1-1B06-4D2A-B391-58C9E62CD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236252-759F-4ACD-9DB3-D212E79FF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113730-2F12-4465-9B05-3F117B61F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04208D-79FD-42D9-B188-CC1C52AFB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5D50AB-ACD4-45F4-BEF7-59C265F58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1E51-11E6-4047-BA99-DE181E4E3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88282A-7CBE-498F-95D8-A693D50FD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D27152-B217-456C-AFEC-F555321CB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FC3849-34D9-4222-A21D-AD53086D6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AEF4E9-0404-4331-A3DD-8FD4AD57D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52D99C-575F-42C3-8F3E-13BA189CA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5DA648-3260-4844-B219-6B550621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0CC6C9-DB5F-48A8-A1D4-EAB3C7AC3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2BC804-79DE-4567-829E-B4B1B73C3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F04B80-7D40-4EC0-80B0-D9C4BD864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E0BBC7-C755-4CBB-8757-A00627873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993C-810B-4F68-BBE4-7D711EB3A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0A1C7D-7436-4BA0-933B-2771D549A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C62893-8277-4EEA-BD8E-5F14BFC04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5B26A1-30F9-4F83-9B5C-59CFC6B3C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A7943A-08D1-4FE3-873F-8C4AD7C2A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3865E2-795C-4AAC-A3B2-B292C427C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BF5DCA-B719-42F5-A2C0-8CB13C0AB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34B0B2-1289-49A4-971D-2360EB925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572082-1BE2-4292-9C6B-178F4CE19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B5DDFC-B144-472E-8C56-0DBA17155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B55B63-33CE-465D-9499-B59667E8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A8A69-83F4-4CFB-90F9-F0A30BDBA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92C7E3-E34A-409E-8EBE-B580F070D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25F727-C69A-4B68-9ACA-B65434BAF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82CD05-BAB9-4CCE-B991-D6F917DE2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4C697D-D11E-43FF-86C1-A1FEE6D85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0380F5-7FB0-4245-A8ED-A7FA75DF1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D3133B-75DC-4E8D-BA04-840BDFD5D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596E01-439A-4A78-AA47-D56827F12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2E971A-D0D4-4D61-849F-303D45414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B440D2-F00F-452A-80E3-0288697D7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C38B5A-EFB7-432F-B054-4E800F4F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47D76-CEF0-4856-89EB-4CF810D4A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8005BE-0A68-4961-8D22-72C4CB073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4689EC-CBA7-48F4-81C2-31C48068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6C91EF-79DD-4AA2-ACF7-DD3D1F2C1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50AA9C-F064-4471-854B-FBDEB94F6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BC3593-BCC7-4C99-BBBD-9765EE4E9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9661F-88CB-43E2-A7D9-F621D02D6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66A4A-5B02-4451-93D0-5AFB81586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863CB-C50B-4EEF-8964-66EF7137C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50D30-C541-495F-97C5-D35C1240D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19A0D-8A3F-4FCC-A32E-DB489DD4F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9D60-8962-45C9-A5FB-D412F795B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610CE-846B-4BA6-BA9E-9EC2D0D5D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57084-7027-4A4D-A844-C3DC27F74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13E6D-2DBC-4737-9CD7-711CA5126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3530E-72EE-41DC-8B26-1AFB05AD3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1683C-4636-4AE6-BB47-85263AE29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8362A-1E5D-451E-BB60-E37E78D12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D1F1B-9315-4295-9D7E-AF6CA7A2E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1CF72-12D6-46F9-BD88-7BAC20B78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773D8-65C7-407E-ACA0-9E1EFC002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290C1-2C8B-4E38-B9F6-A3110448E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3769-B65B-4CEA-815D-1EA6CFA3A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F3A25-267A-4193-A326-7C593B39A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67E62-68DE-4D77-83A5-6E874807E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D4041-A871-482E-99F4-4D15EA11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AD329-80AC-4294-A59E-6BE0BE85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3CFF0-8E48-45F2-BACA-311C61C3A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DE3AB-B448-4049-B927-BF4825FC2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ED6DC-F950-454E-B083-2F79D3B13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23748-52C9-4E3A-9D28-45019A9B8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9CE38-A04D-4903-9D4E-1CF3AFDE6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39F30-7CA0-4C63-9057-B81AC0F50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EF2C-8B5C-4C0B-B596-BB5F06A47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06401-E605-4D43-93E4-F01F70E6D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A5121-5F72-45A3-88F0-C767277B7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78E14-4BDE-4F9F-A4D2-5E216A4E1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37EC7-654B-4C2B-BA0E-9F0260F0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E1DBA-3A2B-443F-9DD3-E1CA95C37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D26E3-AF4D-4D5E-B5D5-1FC6E327A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FE9AB-56CB-4675-BF49-3A6F59ABD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0B8DD-CBAD-4F7B-932F-0E3350CE8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BE848-754A-4831-898D-195DB1607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CD4A6-6875-46EF-B127-83188A072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5331-B043-4881-A098-149013EBF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DD986E-2C5D-4ACF-B8EF-BE1C8820E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11623-F267-474E-ACD6-98E4E012F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158D7-D775-4059-9907-5B1147F77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0F822-F094-43BB-A6B8-0A59129D8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84530-D522-4824-8480-A66FE9E9E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149C30-6AEF-4917-B8D6-63A1D5D4A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52D40-1FF1-4125-9E51-BA32C96C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0122E-96EA-48EA-870D-E6741666C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57E81-6C83-4C3F-9786-04DE1EDC0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5E9079-5743-4B1D-9519-B92E00007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B53F-B39C-431B-B1DE-1BD057499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CFCCA1-9A1F-4631-A683-6D1C1DD6F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EB0BE8-F0A8-4D97-AD44-0B4E8CA72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6CF2D0-750F-4A99-9E4B-BB02C6F4E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0EB17E-DE63-4FA4-8173-A198E7414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0C4340-B699-40D5-8E55-D1D02C2C0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218F9-A867-4948-BAEF-8FD132521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21C3B2-0550-4CB5-AAD5-81D6FC09C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0B5B90-7681-44C8-B2A7-2DF03F24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6E62A8-5168-477A-883C-F42D8B81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793CFA-3551-449E-9B91-A9C03E2C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4A97-9BCD-45CB-8B60-997460E43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A16E37-9FBF-449D-8014-3EB8C8A36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701DDA-9355-43B5-A5EE-574B51E19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F02540-08EA-4EDA-AC88-873673BF5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43A9BB-CE69-4D8A-84D8-FEA8BD8B7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74101F-640C-4209-A0CF-E00094AAE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EE4F2B-F53B-4D8C-A81A-8DB128B48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AF6CF8-2C54-4F25-A49C-31F377BE4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8DC77B-7107-4BB1-B91A-C23858F8E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D693A4-7202-44FA-8669-8DE63CE0B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820A55-261A-4E27-92D6-27BD89C8E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09D3-668A-4D6F-A7AE-E385385D5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ABF3B8-AEC2-4073-8D9F-66046483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16E666-7B49-4B2A-ACCA-978B2323B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4AA27A-F8D4-424C-BA33-652B1AF4C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3620BE-7ADD-4A81-8369-D7FF4AEC3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75B073-A94B-44F9-BBDB-C7DBAA609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C34831-8A24-450A-ACD0-91B2554E1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FC8549-F75C-4F9F-98D9-30FF7F3C7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160008-712B-4EDD-8F8D-23560DD32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DAE14C-32CB-4248-AA7E-396A4D2B8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870A07-3CA4-46FD-814A-85C02D657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26D4-13A7-423C-AE3C-A1CFBAAA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8FC67C-9624-4FD7-A087-38DFBA300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E2C201-74C9-41BF-BB8A-572584101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E4F774-FC64-40EA-83B6-3B440612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B6E748-111D-4CB4-9165-C46E341D5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262140-BC4A-4FAA-B0C9-0DCDCE99B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A37D64-8409-48D6-A238-0F4C4E855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1AD6BF-9F7B-4A46-9773-83D29F961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86A752-3CB1-49C4-AF77-1A4F288F1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229360-DE25-43E8-80F5-E99B4EB65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72DF47-4D9D-48D8-8ACA-D94A30F5B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4F802-6B75-4D20-B65D-E727BE2A6D1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FEF9A-F156-44D9-9625-64B2D6658D4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D3E9B-F214-4F88-8285-01BFD43BC23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C0DB4-8311-40ED-9BBA-5492F4D53AA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3E227-F970-4B66-9B0D-FDAC202F042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ECDBC-4AB6-4DD4-91FE-E209292CB3A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483C6-1BB9-447A-824E-0C6E1A0ACBD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FA62B-9952-475C-A60D-39EB1D9148B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4E863-35D3-4ED4-955D-A31DEAE6C36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BA82D-597D-4922-85E4-D80F40D9A1E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BABC3-35FB-487A-81A0-76E1215E980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4D8A9-3512-432A-8563-4129A812E2D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280 Sprevádzaj nás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v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ný Krá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ľ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prevádzaj nás, večný Kráľ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vojím požehnaní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aby každý verne stál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 svätom povolan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Dary tvojej milost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ám vždy hojne dáva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ech tvoj príchod v radost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ud tvoj o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akáva.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 tejto živej nádej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zachovaj nás Krist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ech sme všetci nájdení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 službe lásky čistej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aby mnohí poznal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pásnej pravdy prameň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z milosti raz dostal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v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ný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ivot. Amen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4T12:59:33Z</dcterms:modified>
  <cp:revision>24</cp:revision>
  <dc:subject/>
  <dc:title>Je veľký náš Pán, on slávy je Kráľ Nech do všetkých strán  spev vrúcnych znie chvál.</dc:title>
</cp:coreProperties>
</file>